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AE72A30-48E0-4CFC-AD24-5281A04128A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tarting point- teaching more complex now than ever- expectations, research etc. Therefore more important to continaully upskill and share good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uld mention Maths/Science focus, also curriculum innovation (tailor this for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79640" y="6526080"/>
            <a:ext cx="716436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921600">
            <a:off x="-108000" y="50734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24606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333360"/>
            <a:ext cx="914400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8720" y="64674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Jan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burton.david.dj@edumail.vic.gov.au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The Role of the Teaching and Learning 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80000" cy="283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67520" y="66204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87700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Arial"/>
              </a:rPr>
              <a:t>David Burton,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Email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urton.david.dj@edumail.vic.gov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Mobile- </a:t>
            </a:r>
            <a:r>
              <a:rPr b="1" i="1" lang="en-AU" sz="3200" spc="-1" strike="noStrike">
                <a:solidFill>
                  <a:srgbClr val="333399"/>
                </a:solidFill>
                <a:latin typeface="Arial"/>
              </a:rPr>
              <a:t>0458 3602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ing things through the eyes of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143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648036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“…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.committed to ensuring that every young person achieves success through the provision of a high quality education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Innovation &amp; Excellence 2008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eaching and Learning Coaches will work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collaboratively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build the capacity of teacher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n identified schools to support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improvement in student learning outcom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earch suggests coaching has the most profound and sustained impact on teach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460520"/>
            <a:ext cx="190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26920" y="2421000"/>
          <a:ext cx="7620120" cy="30747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nowledge Mast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ill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sroom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heory (Le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iddle/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/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415040" y="55159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earch by Bruce Joyce and Beverly Showe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Some Focus Areas for Coaching: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103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Effective pedag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e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VEL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udent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Behaviou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am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Questio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1052640"/>
            <a:ext cx="403236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Lesson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lement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Learning strategies/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o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ssessment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assroom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eacher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acher/student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Coaching 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484280"/>
            <a:ext cx="8209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Someone telling you what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omeone telling you how to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Expert vs N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A quick “f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Judg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Big 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</a:rPr>
              <a:t>Solving problem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Me having ALL the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 convey a valued person from where he or she is to where he or she wants to b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red,Rogers D. and James C.Selma ,1989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aching and the Art of Management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ganizational Dynamics,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rincessAnne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1520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confidential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 Judge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ffirming strengths in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moting the exchange of good ideas and resources and Sharing 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viding opportunity for professiona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eaking dow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08:15Z</dcterms:created>
  <dc:creator>DE&amp;T User</dc:creator>
  <dc:description/>
  <dc:language>en-US</dc:language>
  <cp:lastModifiedBy>01662175</cp:lastModifiedBy>
  <dcterms:modified xsi:type="dcterms:W3CDTF">2008-03-14T02:57:31Z</dcterms:modified>
  <cp:revision>35</cp:revision>
  <dc:subject/>
  <dc:title>Slide 1</dc:title>
</cp:coreProperties>
</file>